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437C-D68B-4737-B2F3-32BB354C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lsu.edu/introbio/summer/Summer2004/1201/RF/Chapter%205%20review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edunn.edublogs.org/2011/06/08/structure-of-dna-and-rna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hschool.com/science/biology_place/biocoach/transcription/chain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41E-D4EF-4F60-B2C8-885593EB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B5D-8D21-4D4C-8798-301AE2EC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D62-59DF-413C-8685-BFD3C874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666-A2A1-4B69-8363-9D3DDA13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83B-14FA-4316-AD98-3DD7C3E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031-F854-48EE-96BD-212F0C8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B5F-A447-4374-8290-E124D35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222-3583-4173-81AB-6640D098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396-3106-4614-9510-D7D7CF9A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C31-E2CD-4324-BA93-FCEBDB9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5D2-F0FF-4574-A554-6DC68228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905-8BC7-4B1F-9E0D-A642E44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DE58-2B3C-4CC2-9268-4B639CAE3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nalc.org/view/15014-Franklin-s-X-ray-diffraction-explanation-of-X-ray-pattern-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9/concept/index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each of the 4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X-ray diffraction images of DNA that suggested its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view/15014-Franklin-s-X-ray-diffraction-explanation-of-X-ray-pattern-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a model of DNA with a double helix of 2 anti-parallel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the Nobel Prize in 1962 (with Maurice Wilkins) for deducing the structur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9/concept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1.5 p.45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ucleot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arbon sugar (ribose or deoxy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ous bas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 group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46240" y="1981080"/>
            <a:ext cx="505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3440" y="1981080"/>
            <a:ext cx="35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RNA Directi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25680" y="1981080"/>
            <a:ext cx="429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Function - A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3-04-17T12:37:01Z</dcterms:modified>
  <cp:revision>104</cp:revision>
  <dc:subject/>
  <dc:title>Molecular Genetics</dc:title>
</cp:coreProperties>
</file>